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1.wmf" ContentType="image/x-wmf"/>
  <Override PartName="/ppt/media/image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922464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922464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975E-1949-44A0-BC45-3B6646D4BB3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2EAB-0FB2-4C03-BD6D-A920D8B99E1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professoressa Mantovani mi ha chiesto di venire qui oggi per parlarvi di resilienza. Avete mai sentito questo termine e sapete cosa signific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iziare con una breve panoramica della presentazione. Descrivere lo scopo principale della presentazione e i motivi per cui è import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trodurre gli argomenti principal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0274-9DCA-4494-B949-974575E6F85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iziare con una breve panoramica della presentazione. Descrivere lo scopo principale della presentazione e i motivi per cui è import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trodurre gli argomenti principa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consentire sempre ai partecipanti di orientarsi, è possibile ripetere questa diapositiva introduttiva all'interno della presentazione, evidenziando il particolare argomento che verrà illustrato nelle diapositive suc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2C9E-BA8F-4172-90BA-BC6CB52F662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egnaposto numero diapositiva 3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8A1E-62A4-4282-84E8-E9EAA27B595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8879-4E78-4BC6-AD20-F1CD1D913DB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iflessioni sulla circolarità, non c’è una caratteristica più importante dell’altre, non è l’elenco delle figurine, (ce l’ho, manca) dipende da persona persona,Non sono necessarie tutte in massimo grado per essere resilienti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5499-1F54-4B0C-91B9-E74FA048021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professoressa Mantovani mi ha chiesto di venire qui oggi per parlarvi di resilienza. Avete mai sentito questo termine e sapete cosa signific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242A-E8E5-4A0B-BAB5-BEAB7978771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calizzare l’attenzione sulla resilienza implica un cambiamento di sguardo sugli eventi che caratterizzano la natura u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9CA8-9F8E-4887-83DF-CB09598C149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a resilienza va oltre l’affrontare un evento stressante o traumatico senza spezzarsi. Ciò ch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rende peculiare il concetto di resilienza è la capacità di saper affrontare un momento negativo, difficile della propria vita e farne un occasione di crescita, di milgioramento, di cambiamento positivo. Ed è per questo che la resilienza non è il semplice resistere agli urti della vi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2E28-7C01-4550-BE64-7672F56C4AA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a resilienza va oltre l’affrontare un evento stressante o traumatico senza spezzarsi. Ciò ch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rende peculiare il concetto di resilienza è la capacità di saper affrontare un momento negativo, difficile della propria vita e farne un occasione di crescita, di milgioramento, di cambiamento positivo. Ed è per questo che la resilienza non è il semplice resistere agli urti della vi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3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ccellenza te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formazioni riservate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3D86-B891-4EF8-8570-CD334B5BE3C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003320" y="479520"/>
            <a:ext cx="4851360" cy="36399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7800" y="4386240"/>
            <a:ext cx="6261120" cy="48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3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ccellenza te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25"/>
          <p:cNvSpPr/>
          <p:nvPr/>
        </p:nvSpPr>
        <p:spPr>
          <a:xfrm>
            <a:off x="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formazioni riservate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6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6A0-157C-4D8C-A889-7A9588ED47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03320" y="479520"/>
            <a:ext cx="4851360" cy="3639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07800" y="4386240"/>
            <a:ext cx="6261120" cy="48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3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ccellenza te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5"/>
          <p:cNvSpPr/>
          <p:nvPr/>
        </p:nvSpPr>
        <p:spPr>
          <a:xfrm>
            <a:off x="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formazioni riservate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26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E9AE-070C-4DD6-83D0-87E522B4F35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003320" y="479520"/>
            <a:ext cx="4851360" cy="36399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307800" y="4386240"/>
            <a:ext cx="6261120" cy="48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C7BF-C75B-42E8-8A07-DE2F1AAFF2E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a resilienza va oltre l’affrontare un evento stressante o traumatico senza spezzarsi. Ciò ch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rende peculiare il concetto di resilienza è la capacità di saper affrontare un momento negativo, difficile della propria vita e farne un occasione di crescita, di milgioramento, di cambiamento positivo. Ed è per questo che la resilienza non è il semplice resistere agli urti della vi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iziare con una breve panoramica della presentazione. Descrivere lo scopo principale della presentazione e i motivi per cui è import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trodurre gli argomenti principa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er consentire sempre ai partecipanti di orientarsi, è possibile ripetere questa diapositiva introduttiva all'interno della presentazione, evidenziando il particolare argomento che verrà illustrato nelle diapositive suc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6200" y="92250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9B94-8165-473C-8519-C9C4E7213F8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579-21D0-41B9-BD6F-DE98AF4B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6E85-0178-4ABD-8239-3B8A1409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E97-4A74-4128-9E8F-8CC2DBA7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499-A474-4761-AB8B-B7B488ED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A996-B9A1-4823-BFAB-7D579D21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C68A-1706-4661-85FA-98816671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54E7-A9F7-485D-B89C-59B6B033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1D96-808A-4290-A8F3-B86BC443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14F2-50FE-4808-B8BC-E5F76B4D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3B3E-5063-4720-A1F3-BFACEA70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7665-9114-4A02-82DD-215301CD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5E4-A7B7-4D85-B9B4-84068E08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7543-F4A2-487E-94B2-9D7C657C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007A-2202-42BF-87D6-84872CF1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C2D6-F765-451A-B40B-A8620062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D14C-7CE9-4DC3-A8BB-B9F91F50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E742-D84A-4434-8686-B573B060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2097E-16CA-418E-88AF-77EDD517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0162-D8E6-4EBC-831F-ADA34B1C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EBDE8-9389-4006-B92A-EC9F4EFF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D76C-4581-49FF-9472-AB99016F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C2666-519D-46EB-A991-1A695C52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515-3245-4807-AF38-C0FB5AE8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EC538-8E20-4ABA-84A6-2453A1DB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1FFA-811F-49C6-A36E-B2675ECD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A9E08-7CA5-4A55-9997-92F6D2CD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330F3-B3C4-454E-8FB1-F58BACAC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7E83-7D82-4EFF-80AC-5BB69E6E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D4EE-A4E3-4BD7-9959-EE7459B7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0E17-F179-485E-93F3-F1169DAC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30377-0F02-414D-A823-5BDE8686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59664-9227-49D0-B09E-EF4FCA64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CC115-5C29-429A-9B05-C3D812BA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552-CA4E-410B-B571-5097DF77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457DD-0CB6-4702-9AE3-E7661D2D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A50C8-E9A2-4127-A488-FBA9E82E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40F67-6D5E-47FD-B6C4-A236845B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DF23-B2ED-4079-813C-6A30970C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9665C-4B54-41E2-9375-AF6F877F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8F04A-6E22-4190-B50C-70D797D2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09EBF-436D-4D3F-9D71-98B5DECE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316AC-A6DA-401D-BBE5-4CBB7CB2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75160-B96C-47A0-ABBD-924D03B2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D96D6-F443-4B8C-9CC7-4A9A0ABD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303-BD67-4E2E-88A3-E6A4E57C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2028F-1095-4E8B-84E1-977A167E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471CA-9380-498A-94AD-2CCE923A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CD1EF-ADE5-4E67-A14A-E0360F01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A6B9A-A61D-4A11-B9E5-B773352E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6133D-1FA3-41BF-A3F8-12110EDB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FEBFC-6FD3-4100-BB6B-6B2AC234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E3D84-7FA1-41B2-8E2E-31431E88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C348F-6157-4C1C-A9F9-AC90C2A4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F592A-BD3C-4774-B652-9D93F5E3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8C2B7-72DC-4DCF-B9D3-A50FA67A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310-39A0-4F57-B051-37C5FA38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7D927-AE83-4E22-9425-A505BCEF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015-A227-418A-8512-5CA4E7C8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AE7-315D-4784-8486-02AA0E09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C36-1449-4E71-8651-9824B8D8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ttangolo arrotondato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671F-769A-41D0-B139-1129228164F0}" type="slidenum">
              <a:rPr b="0" lang="it-I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ttango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ttangolo arrotondato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ttangolo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ttangolo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ttangolo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6FE3-DD85-414F-9F9B-67C749600305}" type="slidenum">
              <a:rPr b="0" lang="it-I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tango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ettangolo arrotondato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ettangolo arrotondato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ttangolo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ttangolo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ttangolo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BBD7-50CE-4C1B-8918-FC3C483C3C30}" type="slidenum">
              <a:rPr b="0" lang="it-I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ttangolo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ttangolo arrotondato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ttango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ttangolo arrotondato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F6D1-A0C7-4869-A657-81307B16820A}" type="slidenum">
              <a:rPr b="0" lang="it-I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ttangolo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ttangolo arrotondato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ttangolo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ttangolo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ttangolo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752A-4C0E-4DFF-8BF3-9E1759601A08}" type="slidenum">
              <a:rPr b="0" lang="it-IT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0" y="4190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l ruolo della </a:t>
            </a:r>
            <a:r>
              <a:rPr b="1" lang="it-IT" sz="3200" spc="-1" strike="noStrike">
                <a:solidFill>
                  <a:srgbClr val="ff0066"/>
                </a:solidFill>
                <a:latin typeface="Times New Roman"/>
              </a:rPr>
              <a:t>resilienz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ella ridefinizione di percorsi formativi e di prospettiva di vita di giovani studenti universit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889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M.A. Zanetti e P.R. Ferr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versità degli Studi di Pav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11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381636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ttangolo 1"/>
          <p:cNvSpPr/>
          <p:nvPr/>
        </p:nvSpPr>
        <p:spPr>
          <a:xfrm>
            <a:off x="395280" y="765000"/>
            <a:ext cx="8713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ducia in se ste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nsione a finalizzare i propri comportamenti al raggiungimento di obie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lli di sper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nsione all’autorifle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nsione ad individuare obiettivi a breve e lungo ter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li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one positiva del proprio futu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à a sostenere, pianificare e organizzare  la routine quotid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0" y="-17136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S</a:t>
            </a: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s. G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2556000" y="692280"/>
            <a:ext cx="1295280" cy="720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5"/>
          <p:cNvSpPr/>
          <p:nvPr/>
        </p:nvSpPr>
        <p:spPr>
          <a:xfrm>
            <a:off x="3203640" y="1052640"/>
            <a:ext cx="338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oltà accadem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981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VA- entro gruppi</a:t>
            </a:r>
            <a:br>
              <a:rPr sz="2400"/>
            </a:br>
            <a:r>
              <a:rPr b="1" lang="it-IT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C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attore genere: </a:t>
            </a:r>
            <a:r>
              <a:rPr b="1" lang="it-IT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aschi vs. femmine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95280" y="1035000"/>
          <a:ext cx="8353440" cy="5634000"/>
        </p:xfrm>
        <a:graphic>
          <a:graphicData uri="http://schemas.openxmlformats.org/drawingml/2006/table">
            <a:tbl>
              <a:tblPr/>
              <a:tblGrid>
                <a:gridCol w="1728720"/>
                <a:gridCol w="1174680"/>
                <a:gridCol w="438120"/>
                <a:gridCol w="127080"/>
                <a:gridCol w="1246320"/>
                <a:gridCol w="127080"/>
                <a:gridCol w="1244520"/>
                <a:gridCol w="1135080"/>
                <a:gridCol w="1131840"/>
              </a:tblGrid>
              <a:tr h="595440"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eviazione s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i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rowSpan="3">
                  <a:txBody>
                    <a:bodyPr lIns="61920" rIns="6192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ope Pathw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asch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,16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,898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,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emm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,52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19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rowSpan="2">
                  <a:txBody>
                    <a:bodyPr lIns="61920" rIns="6192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ope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asch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5,4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,16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9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0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emm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3,17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,769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rowSpan="3">
                  <a:txBody>
                    <a:bodyPr lIns="61920" rIns="6192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S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ercezione S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asch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2,58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,75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,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emm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,7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,857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 rowSpan="2">
                  <a:txBody>
                    <a:bodyPr lIns="61920" rIns="6192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 Sper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asch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,3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839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7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emm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,76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785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ttangolo 1"/>
          <p:cNvSpPr/>
          <p:nvPr/>
        </p:nvSpPr>
        <p:spPr>
          <a:xfrm>
            <a:off x="324000" y="1557360"/>
            <a:ext cx="8424720" cy="25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nsione alla pianif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nsione ad alti livelli di sper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nsione a buoni livelli di autostima, autoefficacia, speranza e ottimismo per il futuro, determinazione e orientamento realistico verso il fut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itle 1"/>
          <p:cNvSpPr/>
          <p:nvPr/>
        </p:nvSpPr>
        <p:spPr>
          <a:xfrm>
            <a:off x="0" y="-17136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: femmine </a:t>
            </a:r>
            <a:r>
              <a:rPr b="1" i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.</a:t>
            </a: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sch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2484000" y="765000"/>
            <a:ext cx="863640" cy="1079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" descr=""/>
          <p:cNvPicPr/>
          <p:nvPr/>
        </p:nvPicPr>
        <p:blipFill>
          <a:blip r:embed="rId1"/>
          <a:stretch/>
        </p:blipFill>
        <p:spPr>
          <a:xfrm>
            <a:off x="2556000" y="4292640"/>
            <a:ext cx="424800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532720" cy="64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VA- entro gruppi, GS: scientifico vs. umanistico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692280"/>
          <a:ext cx="8424720" cy="5949720"/>
        </p:xfrm>
        <a:graphic>
          <a:graphicData uri="http://schemas.openxmlformats.org/drawingml/2006/table">
            <a:tbl>
              <a:tblPr/>
              <a:tblGrid>
                <a:gridCol w="1566720"/>
                <a:gridCol w="2384280"/>
                <a:gridCol w="522360"/>
                <a:gridCol w="1144800"/>
                <a:gridCol w="1141200"/>
                <a:gridCol w="728640"/>
                <a:gridCol w="190440"/>
                <a:gridCol w="746280"/>
              </a:tblGrid>
              <a:tr h="406440">
                <a:tc gridSpan="2"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eviazione s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040" rIns="5904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i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rowSpan="3"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S TO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manistica - giurid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6,66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4,23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,7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cientifica-tecnolo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2,55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,606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 rowSpan="3"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.AI T.fut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manistica - giurid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4,55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697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,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cientifica-tecnolo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9,1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,59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 rowSpan="3"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.AI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esponsabil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manistica - giurid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9,88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,763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cientifica-tecnolo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6,77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,385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 rowSpan="3"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MF pros.tempor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manistica - giurid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7,55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,17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,4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cientifica-tecnolo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6,27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4,827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 rowSpan="3"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 Possibil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manistica - giurid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,55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006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,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0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cientifica-tecnolo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,72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,494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 rowSpan="3"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 Obiet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manistica - giurid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,3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345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,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cientifica-tecnolo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,55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,633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 rowSpan="2"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 Monitor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umanistica - giurid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,3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449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,7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cientifica-tecnolo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,3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,307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ttangolo 1"/>
          <p:cNvSpPr/>
          <p:nvPr/>
        </p:nvSpPr>
        <p:spPr>
          <a:xfrm>
            <a:off x="179280" y="981000"/>
            <a:ext cx="8785440" cy="53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GI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li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occupazione positiva  per il futu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rsi la responsabilità delle scelt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re obiettivi a breve e lungo ter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are e valu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izzare possibilità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itle 1"/>
          <p:cNvSpPr/>
          <p:nvPr/>
        </p:nvSpPr>
        <p:spPr>
          <a:xfrm>
            <a:off x="0" y="-17136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S: scientifico </a:t>
            </a:r>
            <a:r>
              <a:rPr b="1" i="1" lang="it-IT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s.</a:t>
            </a:r>
            <a:r>
              <a:rPr b="1" lang="it-IT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umanist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H="1">
            <a:off x="2484000" y="765000"/>
            <a:ext cx="863640" cy="1079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" descr="C:\Users\Ornella\Desktop\bicicletta, arancia 167823.jpg"/>
          <p:cNvPicPr/>
          <p:nvPr/>
        </p:nvPicPr>
        <p:blipFill>
          <a:blip r:embed="rId1"/>
          <a:stretch/>
        </p:blipFill>
        <p:spPr>
          <a:xfrm>
            <a:off x="3998880" y="1127160"/>
            <a:ext cx="470700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i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CasellaDiTesto 2"/>
          <p:cNvSpPr/>
          <p:nvPr/>
        </p:nvSpPr>
        <p:spPr>
          <a:xfrm>
            <a:off x="324000" y="620640"/>
            <a:ext cx="84960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tudenti senza difficoltà vs. studenti in rit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GI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imismo e resili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ranza,  soprattutto per quanto riguarda il raggiungimento dei propri obie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4f4b4b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ttangolo 4"/>
          <p:cNvSpPr/>
          <p:nvPr/>
        </p:nvSpPr>
        <p:spPr>
          <a:xfrm>
            <a:off x="539640" y="278136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Perpetua"/>
                <a:ea typeface="Arial"/>
              </a:rPr>
              <a:t>Differenze di genere </a:t>
            </a:r>
            <a:r>
              <a:rPr b="0" lang="it-IT" sz="2400" spc="-1" strike="noStrike">
                <a:solidFill>
                  <a:srgbClr val="000000"/>
                </a:solidFill>
                <a:latin typeface="Perpetua"/>
                <a:ea typeface="Arial"/>
              </a:rPr>
              <a:t>legate principalmente al livello di speranza : </a:t>
            </a:r>
            <a:r>
              <a:rPr b="1" lang="it-IT" sz="2400" spc="-1" strike="noStrike">
                <a:solidFill>
                  <a:srgbClr val="000000"/>
                </a:solidFill>
                <a:latin typeface="Perpetua"/>
                <a:ea typeface="Arial"/>
              </a:rPr>
              <a:t>maggiore nei ma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f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ttangolo 5"/>
          <p:cNvSpPr/>
          <p:nvPr/>
        </p:nvSpPr>
        <p:spPr>
          <a:xfrm>
            <a:off x="1042920" y="436392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Perpetua"/>
                <a:ea typeface="Arial"/>
              </a:rPr>
              <a:t>Differenze</a:t>
            </a:r>
            <a:r>
              <a:rPr b="0" lang="it-IT" sz="2400" spc="-1" strike="noStrike">
                <a:solidFill>
                  <a:srgbClr val="000000"/>
                </a:solidFill>
                <a:latin typeface="Perpetua"/>
                <a:ea typeface="Arial"/>
              </a:rPr>
              <a:t> di </a:t>
            </a:r>
            <a:r>
              <a:rPr b="1" lang="it-IT" sz="2400" spc="-1" strike="noStrike">
                <a:solidFill>
                  <a:srgbClr val="000000"/>
                </a:solidFill>
                <a:latin typeface="Perpetua"/>
                <a:ea typeface="Arial"/>
              </a:rPr>
              <a:t>corso di studio</a:t>
            </a:r>
            <a:r>
              <a:rPr b="0" lang="it-IT" sz="2400" spc="-1" strike="noStrike">
                <a:solidFill>
                  <a:srgbClr val="000000"/>
                </a:solidFill>
                <a:latin typeface="Perpetua"/>
                <a:ea typeface="Arial"/>
              </a:rPr>
              <a:t> legate principalmente al livello di  </a:t>
            </a:r>
            <a:r>
              <a:rPr b="1" lang="it-IT" sz="2400" spc="-1" strike="noStrike">
                <a:solidFill>
                  <a:srgbClr val="000000"/>
                </a:solidFill>
                <a:latin typeface="Perpetua"/>
                <a:ea typeface="Arial"/>
              </a:rPr>
              <a:t>consapevolezza del proprio futuro</a:t>
            </a:r>
            <a:r>
              <a:rPr b="0" lang="it-IT" sz="2400" spc="-1" strike="noStrike">
                <a:solidFill>
                  <a:srgbClr val="000000"/>
                </a:solidFill>
                <a:latin typeface="Perpetua"/>
                <a:ea typeface="Arial"/>
              </a:rPr>
              <a:t>, che è maggiore nel settore </a:t>
            </a:r>
            <a:r>
              <a:rPr b="1" lang="it-IT" sz="2400" spc="-1" strike="noStrike">
                <a:solidFill>
                  <a:srgbClr val="000000"/>
                </a:solidFill>
                <a:latin typeface="Perpetua"/>
                <a:ea typeface="Arial"/>
              </a:rPr>
              <a:t>umanistico –giuri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ttangolo 6"/>
          <p:cNvSpPr/>
          <p:nvPr/>
        </p:nvSpPr>
        <p:spPr>
          <a:xfrm>
            <a:off x="1042920" y="4437000"/>
            <a:ext cx="4608720" cy="1844640"/>
          </a:xfrm>
          <a:prstGeom prst="rect">
            <a:avLst/>
          </a:prstGeom>
          <a:noFill/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ttangolo 7"/>
          <p:cNvSpPr/>
          <p:nvPr/>
        </p:nvSpPr>
        <p:spPr>
          <a:xfrm>
            <a:off x="1042920" y="2781360"/>
            <a:ext cx="4608720" cy="165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Callout con freccia a destra 9"/>
          <p:cNvSpPr/>
          <p:nvPr/>
        </p:nvSpPr>
        <p:spPr>
          <a:xfrm>
            <a:off x="5651640" y="2781360"/>
            <a:ext cx="576000" cy="3527280"/>
          </a:xfrm>
          <a:prstGeom prst="rightArrowCallout">
            <a:avLst>
              <a:gd name="adj1" fmla="val 25008"/>
              <a:gd name="adj2" fmla="val 25005"/>
              <a:gd name="adj3" fmla="val 25000"/>
              <a:gd name="adj4" fmla="val 6497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CasellaDiTesto 10"/>
          <p:cNvSpPr/>
          <p:nvPr/>
        </p:nvSpPr>
        <p:spPr>
          <a:xfrm>
            <a:off x="6443640" y="3573360"/>
            <a:ext cx="2449440" cy="228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Perpetua"/>
              </a:rPr>
              <a:t>LI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Perpetua"/>
              </a:rPr>
              <a:t>il campione non è abbastanza ampio e omogene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"/>
          <p:cNvSpPr/>
          <p:nvPr/>
        </p:nvSpPr>
        <p:spPr>
          <a:xfrm flipH="1">
            <a:off x="2627280" y="1125360"/>
            <a:ext cx="432000" cy="358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Line 2"/>
          <p:cNvSpPr/>
          <p:nvPr/>
        </p:nvSpPr>
        <p:spPr>
          <a:xfrm>
            <a:off x="762120" y="38098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762120" y="26668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"/>
          <p:cNvSpPr/>
          <p:nvPr/>
        </p:nvSpPr>
        <p:spPr>
          <a:xfrm>
            <a:off x="4191120" y="4419720"/>
            <a:ext cx="144756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5"/>
          <p:cNvSpPr/>
          <p:nvPr/>
        </p:nvSpPr>
        <p:spPr>
          <a:xfrm>
            <a:off x="1600200" y="4419720"/>
            <a:ext cx="144792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pen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6"/>
          <p:cNvSpPr/>
          <p:nvPr/>
        </p:nvSpPr>
        <p:spPr>
          <a:xfrm>
            <a:off x="685800" y="2666880"/>
            <a:ext cx="144792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o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eost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7"/>
          <p:cNvSpPr/>
          <p:nvPr/>
        </p:nvSpPr>
        <p:spPr>
          <a:xfrm>
            <a:off x="7162920" y="1447920"/>
            <a:ext cx="152388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ntegr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8"/>
          <p:cNvSpPr/>
          <p:nvPr/>
        </p:nvSpPr>
        <p:spPr>
          <a:xfrm>
            <a:off x="7162920" y="2666880"/>
            <a:ext cx="152388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or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eost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9"/>
          <p:cNvSpPr/>
          <p:nvPr/>
        </p:nvSpPr>
        <p:spPr>
          <a:xfrm>
            <a:off x="7238880" y="3809880"/>
            <a:ext cx="152424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ntegr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perd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7315200" y="4952880"/>
            <a:ext cx="137160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ntegr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funz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685800" y="990720"/>
            <a:ext cx="1800360" cy="718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o stress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2"/>
          <p:cNvSpPr/>
          <p:nvPr/>
        </p:nvSpPr>
        <p:spPr>
          <a:xfrm>
            <a:off x="838080" y="17524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3"/>
          <p:cNvSpPr/>
          <p:nvPr/>
        </p:nvSpPr>
        <p:spPr>
          <a:xfrm>
            <a:off x="1295280" y="17524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4"/>
          <p:cNvSpPr/>
          <p:nvPr/>
        </p:nvSpPr>
        <p:spPr>
          <a:xfrm>
            <a:off x="1752480" y="17524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5"/>
          <p:cNvSpPr/>
          <p:nvPr/>
        </p:nvSpPr>
        <p:spPr>
          <a:xfrm>
            <a:off x="2257560" y="179064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2257560" y="2247480"/>
            <a:ext cx="228600" cy="381600"/>
            <a:chOff x="2257560" y="2247480"/>
            <a:chExt cx="228600" cy="381600"/>
          </a:xfrm>
        </p:grpSpPr>
        <p:sp>
          <p:nvSpPr>
            <p:cNvPr id="340" name="Rectangle 17"/>
            <p:cNvSpPr/>
            <p:nvPr/>
          </p:nvSpPr>
          <p:spPr>
            <a:xfrm>
              <a:off x="2257560" y="2247840"/>
              <a:ext cx="22860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 flipV="1">
              <a:off x="2257560" y="2247120"/>
              <a:ext cx="228600" cy="381240"/>
            </a:xfrm>
            <a:prstGeom prst="downArrow">
              <a:avLst>
                <a:gd name="adj1" fmla="val 50000"/>
                <a:gd name="adj2" fmla="val 416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9"/>
          <p:cNvGrpSpPr/>
          <p:nvPr/>
        </p:nvGrpSpPr>
        <p:grpSpPr>
          <a:xfrm>
            <a:off x="1752480" y="2247480"/>
            <a:ext cx="228600" cy="381600"/>
            <a:chOff x="1752480" y="2247480"/>
            <a:chExt cx="228600" cy="381600"/>
          </a:xfrm>
        </p:grpSpPr>
        <p:sp>
          <p:nvSpPr>
            <p:cNvPr id="343" name="Rectangle 20"/>
            <p:cNvSpPr/>
            <p:nvPr/>
          </p:nvSpPr>
          <p:spPr>
            <a:xfrm>
              <a:off x="1752480" y="2247840"/>
              <a:ext cx="22860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utoShape 21"/>
            <p:cNvSpPr/>
            <p:nvPr/>
          </p:nvSpPr>
          <p:spPr>
            <a:xfrm flipV="1">
              <a:off x="1752480" y="2247120"/>
              <a:ext cx="228600" cy="381240"/>
            </a:xfrm>
            <a:prstGeom prst="downArrow">
              <a:avLst>
                <a:gd name="adj1" fmla="val 50000"/>
                <a:gd name="adj2" fmla="val 416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22"/>
          <p:cNvGrpSpPr/>
          <p:nvPr/>
        </p:nvGrpSpPr>
        <p:grpSpPr>
          <a:xfrm>
            <a:off x="1295280" y="2247480"/>
            <a:ext cx="228600" cy="381600"/>
            <a:chOff x="1295280" y="2247480"/>
            <a:chExt cx="228600" cy="381600"/>
          </a:xfrm>
        </p:grpSpPr>
        <p:sp>
          <p:nvSpPr>
            <p:cNvPr id="346" name="Rectangle 23"/>
            <p:cNvSpPr/>
            <p:nvPr/>
          </p:nvSpPr>
          <p:spPr>
            <a:xfrm>
              <a:off x="1295280" y="2247840"/>
              <a:ext cx="22860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24"/>
            <p:cNvSpPr/>
            <p:nvPr/>
          </p:nvSpPr>
          <p:spPr>
            <a:xfrm flipV="1">
              <a:off x="1295280" y="2247120"/>
              <a:ext cx="228600" cy="381240"/>
            </a:xfrm>
            <a:prstGeom prst="downArrow">
              <a:avLst>
                <a:gd name="adj1" fmla="val 50000"/>
                <a:gd name="adj2" fmla="val 416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25"/>
          <p:cNvGrpSpPr/>
          <p:nvPr/>
        </p:nvGrpSpPr>
        <p:grpSpPr>
          <a:xfrm>
            <a:off x="838080" y="2247480"/>
            <a:ext cx="228600" cy="381600"/>
            <a:chOff x="838080" y="2247480"/>
            <a:chExt cx="228600" cy="381600"/>
          </a:xfrm>
        </p:grpSpPr>
        <p:sp>
          <p:nvSpPr>
            <p:cNvPr id="349" name="Rectangle 26"/>
            <p:cNvSpPr/>
            <p:nvPr/>
          </p:nvSpPr>
          <p:spPr>
            <a:xfrm>
              <a:off x="838080" y="2247840"/>
              <a:ext cx="22860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AutoShape 27"/>
            <p:cNvSpPr/>
            <p:nvPr/>
          </p:nvSpPr>
          <p:spPr>
            <a:xfrm flipV="1">
              <a:off x="838080" y="2247120"/>
              <a:ext cx="228600" cy="381240"/>
            </a:xfrm>
            <a:prstGeom prst="downArrow">
              <a:avLst>
                <a:gd name="adj1" fmla="val 50000"/>
                <a:gd name="adj2" fmla="val 416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Line 28"/>
          <p:cNvSpPr/>
          <p:nvPr/>
        </p:nvSpPr>
        <p:spPr>
          <a:xfrm flipV="1">
            <a:off x="5638680" y="4495320"/>
            <a:ext cx="1600200" cy="428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29"/>
          <p:cNvSpPr/>
          <p:nvPr/>
        </p:nvSpPr>
        <p:spPr>
          <a:xfrm>
            <a:off x="5638680" y="5181480"/>
            <a:ext cx="167652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0"/>
          <p:cNvSpPr/>
          <p:nvPr/>
        </p:nvSpPr>
        <p:spPr>
          <a:xfrm flipV="1">
            <a:off x="5410080" y="3581280"/>
            <a:ext cx="1800360" cy="96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1"/>
          <p:cNvSpPr/>
          <p:nvPr/>
        </p:nvSpPr>
        <p:spPr>
          <a:xfrm flipV="1">
            <a:off x="5181480" y="2438280"/>
            <a:ext cx="1981440" cy="198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2"/>
          <p:cNvSpPr/>
          <p:nvPr/>
        </p:nvSpPr>
        <p:spPr>
          <a:xfrm>
            <a:off x="3048120" y="4952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3"/>
          <p:cNvSpPr/>
          <p:nvPr/>
        </p:nvSpPr>
        <p:spPr>
          <a:xfrm>
            <a:off x="4724280" y="4753080"/>
            <a:ext cx="8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4"/>
          <p:cNvSpPr/>
          <p:nvPr/>
        </p:nvSpPr>
        <p:spPr>
          <a:xfrm>
            <a:off x="4191120" y="48006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ntegr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5"/>
          <p:cNvSpPr/>
          <p:nvPr/>
        </p:nvSpPr>
        <p:spPr>
          <a:xfrm>
            <a:off x="2590920" y="2286000"/>
            <a:ext cx="297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isorse personali resilienti</a:t>
            </a: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6"/>
          <p:cNvSpPr/>
          <p:nvPr/>
        </p:nvSpPr>
        <p:spPr>
          <a:xfrm>
            <a:off x="1295280" y="3886200"/>
            <a:ext cx="4399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lo di Richardson (2002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val 2"/>
          <p:cNvSpPr/>
          <p:nvPr/>
        </p:nvSpPr>
        <p:spPr>
          <a:xfrm>
            <a:off x="3254400" y="2357280"/>
            <a:ext cx="2514600" cy="2514600"/>
          </a:xfrm>
          <a:prstGeom prst="ellipse">
            <a:avLst/>
          </a:prstGeom>
          <a:noFill/>
          <a:ln w="7632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Group 4" descr=""/>
          <p:cNvPicPr/>
          <p:nvPr/>
        </p:nvPicPr>
        <p:blipFill>
          <a:blip r:embed="rId1"/>
          <a:stretch/>
        </p:blipFill>
        <p:spPr>
          <a:xfrm>
            <a:off x="4237200" y="1816200"/>
            <a:ext cx="468000" cy="469800"/>
          </a:xfrm>
          <a:prstGeom prst="rect">
            <a:avLst/>
          </a:prstGeom>
          <a:ln w="0">
            <a:noFill/>
          </a:ln>
        </p:spPr>
      </p:pic>
      <p:pic>
        <p:nvPicPr>
          <p:cNvPr id="363" name="Group 7" descr=""/>
          <p:cNvPicPr/>
          <p:nvPr/>
        </p:nvPicPr>
        <p:blipFill>
          <a:blip r:embed="rId2"/>
          <a:stretch/>
        </p:blipFill>
        <p:spPr>
          <a:xfrm>
            <a:off x="5383080" y="2200320"/>
            <a:ext cx="468360" cy="469800"/>
          </a:xfrm>
          <a:prstGeom prst="rect">
            <a:avLst/>
          </a:prstGeom>
          <a:ln w="0">
            <a:noFill/>
          </a:ln>
        </p:spPr>
      </p:pic>
      <p:pic>
        <p:nvPicPr>
          <p:cNvPr id="364" name="Group 10" descr=""/>
          <p:cNvPicPr/>
          <p:nvPr/>
        </p:nvPicPr>
        <p:blipFill>
          <a:blip r:embed="rId3"/>
          <a:stretch/>
        </p:blipFill>
        <p:spPr>
          <a:xfrm>
            <a:off x="5688000" y="4181400"/>
            <a:ext cx="468360" cy="469800"/>
          </a:xfrm>
          <a:prstGeom prst="rect">
            <a:avLst/>
          </a:prstGeom>
          <a:ln w="0">
            <a:noFill/>
          </a:ln>
        </p:spPr>
      </p:pic>
      <p:pic>
        <p:nvPicPr>
          <p:cNvPr id="365" name="Group 13" descr=""/>
          <p:cNvPicPr/>
          <p:nvPr/>
        </p:nvPicPr>
        <p:blipFill>
          <a:blip r:embed="rId4"/>
          <a:stretch/>
        </p:blipFill>
        <p:spPr>
          <a:xfrm>
            <a:off x="5840280" y="3114720"/>
            <a:ext cx="468360" cy="469800"/>
          </a:xfrm>
          <a:prstGeom prst="rect">
            <a:avLst/>
          </a:prstGeom>
          <a:ln w="0">
            <a:noFill/>
          </a:ln>
        </p:spPr>
      </p:pic>
      <p:pic>
        <p:nvPicPr>
          <p:cNvPr id="366" name="Group 16" descr=""/>
          <p:cNvPicPr/>
          <p:nvPr/>
        </p:nvPicPr>
        <p:blipFill>
          <a:blip r:embed="rId5"/>
          <a:stretch/>
        </p:blipFill>
        <p:spPr>
          <a:xfrm>
            <a:off x="3780000" y="4943520"/>
            <a:ext cx="468000" cy="4698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9"/>
          <p:cNvSpPr/>
          <p:nvPr/>
        </p:nvSpPr>
        <p:spPr>
          <a:xfrm>
            <a:off x="3635280" y="1062000"/>
            <a:ext cx="1981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effic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"/>
          <p:cNvSpPr/>
          <p:nvPr/>
        </p:nvSpPr>
        <p:spPr>
          <a:xfrm>
            <a:off x="5997600" y="1824120"/>
            <a:ext cx="19810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1"/>
          <p:cNvSpPr/>
          <p:nvPr/>
        </p:nvSpPr>
        <p:spPr>
          <a:xfrm>
            <a:off x="6531120" y="4186080"/>
            <a:ext cx="1981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i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816120" y="1900080"/>
            <a:ext cx="2057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ra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Group 25" descr=""/>
          <p:cNvPicPr/>
          <p:nvPr/>
        </p:nvPicPr>
        <p:blipFill>
          <a:blip r:embed="rId6"/>
          <a:stretch/>
        </p:blipFill>
        <p:spPr>
          <a:xfrm>
            <a:off x="4998960" y="4863960"/>
            <a:ext cx="468360" cy="470160"/>
          </a:xfrm>
          <a:prstGeom prst="rect">
            <a:avLst/>
          </a:prstGeom>
          <a:ln w="0">
            <a:noFill/>
          </a:ln>
        </p:spPr>
      </p:pic>
      <p:pic>
        <p:nvPicPr>
          <p:cNvPr id="372" name="Group 28" descr=""/>
          <p:cNvPicPr/>
          <p:nvPr/>
        </p:nvPicPr>
        <p:blipFill>
          <a:blip r:embed="rId7"/>
          <a:stretch/>
        </p:blipFill>
        <p:spPr>
          <a:xfrm>
            <a:off x="3097080" y="2273400"/>
            <a:ext cx="468360" cy="4698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31"/>
          <p:cNvSpPr/>
          <p:nvPr/>
        </p:nvSpPr>
        <p:spPr>
          <a:xfrm>
            <a:off x="358920" y="3119400"/>
            <a:ext cx="2209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l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Group 32" descr=""/>
          <p:cNvPicPr/>
          <p:nvPr/>
        </p:nvPicPr>
        <p:blipFill>
          <a:blip r:embed="rId8"/>
          <a:stretch/>
        </p:blipFill>
        <p:spPr>
          <a:xfrm>
            <a:off x="2712960" y="3267000"/>
            <a:ext cx="468360" cy="4698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5"/>
          <p:cNvSpPr/>
          <p:nvPr/>
        </p:nvSpPr>
        <p:spPr>
          <a:xfrm>
            <a:off x="358920" y="4262400"/>
            <a:ext cx="2361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pend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Group 36" descr=""/>
          <p:cNvPicPr/>
          <p:nvPr/>
        </p:nvPicPr>
        <p:blipFill>
          <a:blip r:embed="rId9"/>
          <a:stretch/>
        </p:blipFill>
        <p:spPr>
          <a:xfrm>
            <a:off x="2944800" y="4254480"/>
            <a:ext cx="468360" cy="4698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9"/>
          <p:cNvSpPr/>
          <p:nvPr/>
        </p:nvSpPr>
        <p:spPr>
          <a:xfrm>
            <a:off x="6531120" y="2967120"/>
            <a:ext cx="2361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apevolezza emo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0"/>
          <p:cNvSpPr/>
          <p:nvPr/>
        </p:nvSpPr>
        <p:spPr>
          <a:xfrm>
            <a:off x="892080" y="5405400"/>
            <a:ext cx="2667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zione casualità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1"/>
          <p:cNvSpPr/>
          <p:nvPr/>
        </p:nvSpPr>
        <p:spPr>
          <a:xfrm>
            <a:off x="5540400" y="5405400"/>
            <a:ext cx="2895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à analitica e di pianific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tori personali </a:t>
            </a:r>
            <a:r>
              <a:rPr b="1" i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</a:t>
            </a: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enesse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3" descr="G:\Foto usabili x  presentazioni\Foto per AIPTLF\Immagine17.jpg"/>
          <p:cNvPicPr/>
          <p:nvPr/>
        </p:nvPicPr>
        <p:blipFill>
          <a:blip r:embed="rId10"/>
          <a:stretch/>
        </p:blipFill>
        <p:spPr>
          <a:xfrm>
            <a:off x="3780000" y="2637000"/>
            <a:ext cx="14540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77960" y="1306440"/>
            <a:ext cx="7250040" cy="50022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5877000" y="3571920"/>
            <a:ext cx="1352520" cy="69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zioni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2057400" y="3552840"/>
            <a:ext cx="130500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3914640" y="914400"/>
            <a:ext cx="15242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ti resi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733920" y="5257800"/>
            <a:ext cx="167616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on Adat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4000680" y="2219400"/>
            <a:ext cx="1257120" cy="10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ai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5292720" y="2781360"/>
            <a:ext cx="105084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9"/>
          <p:cNvSpPr/>
          <p:nvPr/>
        </p:nvSpPr>
        <p:spPr>
          <a:xfrm>
            <a:off x="4619520" y="158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"/>
          <p:cNvSpPr/>
          <p:nvPr/>
        </p:nvSpPr>
        <p:spPr>
          <a:xfrm flipH="1">
            <a:off x="3485880" y="37339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1"/>
          <p:cNvSpPr/>
          <p:nvPr/>
        </p:nvSpPr>
        <p:spPr>
          <a:xfrm>
            <a:off x="3505320" y="4048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2"/>
          <p:cNvSpPr/>
          <p:nvPr/>
        </p:nvSpPr>
        <p:spPr>
          <a:xfrm flipH="1">
            <a:off x="3171960" y="2886120"/>
            <a:ext cx="82872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3"/>
          <p:cNvSpPr/>
          <p:nvPr/>
        </p:nvSpPr>
        <p:spPr>
          <a:xfrm>
            <a:off x="3247920" y="4314960"/>
            <a:ext cx="105732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orso per il benesse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0" y="419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GRAZ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0" y="47973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M.A. Zanetti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zanetti@unipv.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.R. Ferrar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  pferra@unipv.it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versità degli Studi di Pav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11" descr=""/>
          <p:cNvPicPr/>
          <p:nvPr/>
        </p:nvPicPr>
        <p:blipFill>
          <a:blip r:embed="rId1"/>
          <a:stretch/>
        </p:blipFill>
        <p:spPr>
          <a:xfrm>
            <a:off x="2771640" y="1398600"/>
            <a:ext cx="381636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0" y="26370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tere d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re le proprie risorse con i propri lim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comprendere che l’esperienza (anche traumatic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ò divenire un occasione forma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Text Box 7"/>
          <p:cNvGrpSpPr/>
          <p:nvPr/>
        </p:nvGrpSpPr>
        <p:grpSpPr>
          <a:xfrm>
            <a:off x="4668840" y="1060560"/>
            <a:ext cx="3841920" cy="1092240"/>
            <a:chOff x="4668840" y="1060560"/>
            <a:chExt cx="3841920" cy="1092240"/>
          </a:xfrm>
        </p:grpSpPr>
        <p:pic>
          <p:nvPicPr>
            <p:cNvPr id="240" name="Text Box 7" descr=""/>
            <p:cNvPicPr/>
            <p:nvPr/>
          </p:nvPicPr>
          <p:blipFill>
            <a:blip r:embed="rId1"/>
            <a:stretch/>
          </p:blipFill>
          <p:spPr>
            <a:xfrm>
              <a:off x="4668840" y="1060560"/>
              <a:ext cx="384192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16360" y="1125360"/>
              <a:ext cx="37432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1" lang="it-IT" sz="24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risorse individua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psicologia positiv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Line 8"/>
          <p:cNvSpPr/>
          <p:nvPr/>
        </p:nvSpPr>
        <p:spPr>
          <a:xfrm flipH="1">
            <a:off x="5003280" y="1989000"/>
            <a:ext cx="863640" cy="5763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ambio di prospettiv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ttangolo 7"/>
          <p:cNvSpPr/>
          <p:nvPr/>
        </p:nvSpPr>
        <p:spPr>
          <a:xfrm>
            <a:off x="324000" y="443700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ttenzione 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“capitale psicologico”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Luthans e Youssef, 2007) , ovvero quell’insieme di dimensioni quali la fiducia nel portare a termine i propri compiti, l’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ottimism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nei confronti delle possibilità di successo, l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silienz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la perseveranza verso i propri obiettivi, la capacità di ri-formulare obiettivi, di far fronte ad ostacoli e problemi, la speranza di gestire le situazioni in relazione ai propri obie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Text Box 7"/>
          <p:cNvGrpSpPr/>
          <p:nvPr/>
        </p:nvGrpSpPr>
        <p:grpSpPr>
          <a:xfrm>
            <a:off x="347760" y="1103400"/>
            <a:ext cx="4273560" cy="884160"/>
            <a:chOff x="347760" y="1103400"/>
            <a:chExt cx="4273560" cy="884160"/>
          </a:xfrm>
        </p:grpSpPr>
        <p:pic>
          <p:nvPicPr>
            <p:cNvPr id="246" name="Text Box 7" descr=""/>
            <p:cNvPicPr/>
            <p:nvPr/>
          </p:nvPicPr>
          <p:blipFill>
            <a:blip r:embed="rId2"/>
            <a:stretch/>
          </p:blipFill>
          <p:spPr>
            <a:xfrm>
              <a:off x="347760" y="1103400"/>
              <a:ext cx="42735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95280" y="1125360"/>
              <a:ext cx="4176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 mancanza e vulnerabilit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Connettore 1 11"/>
          <p:cNvSpPr/>
          <p:nvPr/>
        </p:nvSpPr>
        <p:spPr>
          <a:xfrm>
            <a:off x="1619280" y="907920"/>
            <a:ext cx="1873080" cy="151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Connettore 1 12"/>
          <p:cNvSpPr/>
          <p:nvPr/>
        </p:nvSpPr>
        <p:spPr>
          <a:xfrm flipH="1">
            <a:off x="1476000" y="907920"/>
            <a:ext cx="1871640" cy="1513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mbito psicologico</a:t>
            </a:r>
            <a:endParaRPr b="0" lang="en-US" sz="3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50920" y="1222200"/>
            <a:ext cx="86421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837151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lienz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la capacità di affrontare degli eventi traumatici e stressanti, superarli e continuare a svilupparsi aumentando le proprie risorse con una conseguente riorganizzazione positiva della vita; è la capacità di trasformare un’esperienza dolorosa o stressante in un apprendimento; è la capacità di acquisire delle competenze utili al miglioramento della qualità della v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50920" y="3184560"/>
            <a:ext cx="86421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837151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peranz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sulta positivamente associata con elevate abilità d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olving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con maggiori livelli di creatività, e aiuta a far fronte agli eventi negativi di vita in modo migliore (Valle et al., 2006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50920" y="4626000"/>
            <a:ext cx="86421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37151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studi sull’</a:t>
            </a: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ttimism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gli adolescenti sottolineano che esso si associa ad una minor presenza di sentimenti positivi, minori livelli di depressione, di ansia, di comportamenti disadattavi o con un minor ricorso all’abuso di sostanze (Carrieri, 201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studio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Rettangolo 6"/>
          <p:cNvSpPr/>
          <p:nvPr/>
        </p:nvSpPr>
        <p:spPr>
          <a:xfrm>
            <a:off x="395280" y="1158840"/>
            <a:ext cx="842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Università di Pavia ha voluto indag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 - il ruolo della </a:t>
            </a: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Arial"/>
              </a:rPr>
              <a:t>speranz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dell’</a:t>
            </a: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Arial"/>
              </a:rPr>
              <a:t>ottimism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e della </a:t>
            </a: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Arial"/>
              </a:rPr>
              <a:t>resilienz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in studenti universitari con difficoltà nella carriera accademic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 - la presenza di fattori e dimensioni legate alla struttura di personalità, eventuali differenze legate al genere o al diverso corso di stud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Text Box 7"/>
          <p:cNvGrpSpPr/>
          <p:nvPr/>
        </p:nvGrpSpPr>
        <p:grpSpPr>
          <a:xfrm>
            <a:off x="549360" y="3906720"/>
            <a:ext cx="2919240" cy="1871640"/>
            <a:chOff x="549360" y="3906720"/>
            <a:chExt cx="2919240" cy="1871640"/>
          </a:xfrm>
        </p:grpSpPr>
        <p:pic>
          <p:nvPicPr>
            <p:cNvPr id="257" name="Text Box 7" descr=""/>
            <p:cNvPicPr/>
            <p:nvPr/>
          </p:nvPicPr>
          <p:blipFill>
            <a:blip r:embed="rId1"/>
            <a:stretch/>
          </p:blipFill>
          <p:spPr>
            <a:xfrm>
              <a:off x="549360" y="3906720"/>
              <a:ext cx="291924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84360" y="3933720"/>
              <a:ext cx="27352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progetto internazionale coordinato dal </a:t>
              </a:r>
              <a:r>
                <a:rPr b="1" lang="it-IT" sz="2400" spc="-1" strike="noStrike">
                  <a:solidFill>
                    <a:srgbClr val="ff0066"/>
                  </a:solidFill>
                  <a:latin typeface="Perpetua"/>
                  <a:ea typeface="Arial"/>
                </a:rPr>
                <a:t>gruppo IH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Rettangolo 7"/>
          <p:cNvSpPr/>
          <p:nvPr/>
        </p:nvSpPr>
        <p:spPr>
          <a:xfrm>
            <a:off x="3780000" y="3357720"/>
            <a:ext cx="457200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Arial"/>
              </a:rPr>
              <a:t>International Hope Reseach Team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cercatori e operatori di orientamento interessati a studiare e a promuovere nelle persone i livelli di speranza ottimismo, resilienza e prospettiva tempo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8"/>
          <p:cNvSpPr/>
          <p:nvPr/>
        </p:nvSpPr>
        <p:spPr>
          <a:xfrm flipV="1">
            <a:off x="2627280" y="4365360"/>
            <a:ext cx="1152720" cy="934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TextBox 6"/>
          <p:cNvGrpSpPr/>
          <p:nvPr/>
        </p:nvGrpSpPr>
        <p:grpSpPr>
          <a:xfrm>
            <a:off x="1427040" y="1017720"/>
            <a:ext cx="5400720" cy="1622160"/>
            <a:chOff x="1427040" y="1017720"/>
            <a:chExt cx="5400720" cy="1622160"/>
          </a:xfrm>
        </p:grpSpPr>
        <p:pic>
          <p:nvPicPr>
            <p:cNvPr id="262" name="TextBox 6" descr=""/>
            <p:cNvPicPr/>
            <p:nvPr/>
          </p:nvPicPr>
          <p:blipFill>
            <a:blip r:embed="rId1"/>
            <a:stretch/>
          </p:blipFill>
          <p:spPr>
            <a:xfrm>
              <a:off x="1427040" y="1017720"/>
              <a:ext cx="5400720" cy="16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76360" y="1052640"/>
              <a:ext cx="52563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                                                </a:t>
              </a: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27 student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difficoltà accademiche 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CFU 9-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                              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età 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21-31 ann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    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posizione 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III anno o fuori cors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TextBox 6"/>
          <p:cNvSpPr/>
          <p:nvPr/>
        </p:nvSpPr>
        <p:spPr>
          <a:xfrm>
            <a:off x="3327480" y="5824440"/>
            <a:ext cx="2655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4859280" y="3789360"/>
            <a:ext cx="388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ione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ruppo sperimen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Grafico 14" descr=""/>
          <p:cNvPicPr/>
          <p:nvPr/>
        </p:nvPicPr>
        <p:blipFill>
          <a:blip r:embed="rId2"/>
          <a:stretch/>
        </p:blipFill>
        <p:spPr>
          <a:xfrm>
            <a:off x="250920" y="2822400"/>
            <a:ext cx="2909880" cy="219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Grafico 15"/>
          <p:cNvGraphicFramePr/>
          <p:nvPr/>
        </p:nvGraphicFramePr>
        <p:xfrm>
          <a:off x="3203640" y="2781360"/>
          <a:ext cx="5616360" cy="3816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9" name="Grafico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2781360"/>
                    <a:ext cx="5616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TextBox 6"/>
          <p:cNvGrpSpPr/>
          <p:nvPr/>
        </p:nvGrpSpPr>
        <p:grpSpPr>
          <a:xfrm>
            <a:off x="1427040" y="1017720"/>
            <a:ext cx="5400720" cy="1622160"/>
            <a:chOff x="1427040" y="1017720"/>
            <a:chExt cx="5400720" cy="1622160"/>
          </a:xfrm>
        </p:grpSpPr>
        <p:pic>
          <p:nvPicPr>
            <p:cNvPr id="271" name="TextBox 6" descr=""/>
            <p:cNvPicPr/>
            <p:nvPr/>
          </p:nvPicPr>
          <p:blipFill>
            <a:blip r:embed="rId1"/>
            <a:stretch/>
          </p:blipFill>
          <p:spPr>
            <a:xfrm>
              <a:off x="1427040" y="1017720"/>
              <a:ext cx="5400720" cy="16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476360" y="1052640"/>
              <a:ext cx="52563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                                                </a:t>
              </a: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46 student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     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percorso adeguato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CFU 120-1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                              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età 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21-41 ann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        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posizione </a:t>
              </a:r>
              <a:r>
                <a:rPr b="0" lang="it-IT" sz="2000" spc="-1" strike="noStrike">
                  <a:solidFill>
                    <a:srgbClr val="000000"/>
                  </a:solidFill>
                  <a:latin typeface="Perpetua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III anno o fuori cors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Rectangle 2"/>
          <p:cNvSpPr/>
          <p:nvPr/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ione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ruppo di 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Grafico 8"/>
          <p:cNvGraphicFramePr/>
          <p:nvPr/>
        </p:nvGraphicFramePr>
        <p:xfrm>
          <a:off x="250920" y="2852640"/>
          <a:ext cx="3054240" cy="255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5" name="Grafico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852640"/>
                    <a:ext cx="305424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Grafico 9"/>
          <p:cNvGraphicFramePr/>
          <p:nvPr/>
        </p:nvGraphicFramePr>
        <p:xfrm>
          <a:off x="3344760" y="2851200"/>
          <a:ext cx="5551560" cy="3882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77" name="Grafico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4760" y="2851200"/>
                    <a:ext cx="555156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ione - 1 e 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TextBox 6"/>
          <p:cNvGrpSpPr/>
          <p:nvPr/>
        </p:nvGrpSpPr>
        <p:grpSpPr>
          <a:xfrm>
            <a:off x="1427040" y="798480"/>
            <a:ext cx="2870280" cy="1620720"/>
            <a:chOff x="1427040" y="798480"/>
            <a:chExt cx="2870280" cy="1620720"/>
          </a:xfrm>
        </p:grpSpPr>
        <p:pic>
          <p:nvPicPr>
            <p:cNvPr id="280" name="TextBox 6" descr=""/>
            <p:cNvPicPr/>
            <p:nvPr/>
          </p:nvPicPr>
          <p:blipFill>
            <a:blip r:embed="rId1"/>
            <a:stretch/>
          </p:blipFill>
          <p:spPr>
            <a:xfrm>
              <a:off x="1427040" y="798480"/>
              <a:ext cx="28702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476360" y="836640"/>
              <a:ext cx="26640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27 student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CFU 9-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21-31 ann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III anno o fuori cors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TextBox 6"/>
          <p:cNvGrpSpPr/>
          <p:nvPr/>
        </p:nvGrpSpPr>
        <p:grpSpPr>
          <a:xfrm>
            <a:off x="4254480" y="798480"/>
            <a:ext cx="2743200" cy="1620720"/>
            <a:chOff x="4254480" y="798480"/>
            <a:chExt cx="2743200" cy="1620720"/>
          </a:xfrm>
        </p:grpSpPr>
        <p:pic>
          <p:nvPicPr>
            <p:cNvPr id="283" name="TextBox 6" descr=""/>
            <p:cNvPicPr/>
            <p:nvPr/>
          </p:nvPicPr>
          <p:blipFill>
            <a:blip r:embed="rId2"/>
            <a:stretch/>
          </p:blipFill>
          <p:spPr>
            <a:xfrm>
              <a:off x="4254480" y="798480"/>
              <a:ext cx="274320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4356000" y="836640"/>
              <a:ext cx="25923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46 student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CFU 120-1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21-41 ann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Perpetua"/>
                </a:rPr>
                <a:t>III anno o fuori cors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Rectangle 2"/>
          <p:cNvSpPr/>
          <p:nvPr/>
        </p:nvSpPr>
        <p:spPr>
          <a:xfrm>
            <a:off x="-36360" y="266544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ologi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ttangolo 3"/>
          <p:cNvSpPr/>
          <p:nvPr/>
        </p:nvSpPr>
        <p:spPr>
          <a:xfrm>
            <a:off x="611280" y="3500280"/>
            <a:ext cx="2881080" cy="2838240"/>
          </a:xfrm>
          <a:prstGeom prst="rect">
            <a:avLst/>
          </a:prstGeom>
          <a:solidFill>
            <a:srgbClr val="ffffff"/>
          </a:solidFill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Arial"/>
              </a:rPr>
              <a:t>Obie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onfronto dei livelli di speranza, ottimismo e resili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dividuare possibili differenze dovute al corso di studi e/o al gen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CasellaDiTesto 6"/>
          <p:cNvSpPr/>
          <p:nvPr/>
        </p:nvSpPr>
        <p:spPr>
          <a:xfrm>
            <a:off x="3708360" y="3502080"/>
            <a:ext cx="4751280" cy="100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Arial"/>
              </a:rPr>
              <a:t>Procedur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ompilazione volontaria di una  batteria di test su piattaforma PollDad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CasellaDiTesto 6"/>
          <p:cNvSpPr/>
          <p:nvPr/>
        </p:nvSpPr>
        <p:spPr>
          <a:xfrm>
            <a:off x="3708360" y="4724280"/>
            <a:ext cx="4751280" cy="165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Arial"/>
              </a:rPr>
              <a:t>Anal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NOVA univari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ruppo - genere - cor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unteggi nelle diverse s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88360" cy="56102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menti</a:t>
            </a:r>
            <a:endParaRPr b="0" lang="en-US" sz="3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340000" y="1222200"/>
            <a:ext cx="431964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37151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li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esilience (forma ridot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Resilience Scale for Ad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esigning my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2340000" y="2708280"/>
            <a:ext cx="431964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837151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per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pe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ope Centered Career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o.spera (sottoscal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atisfaction with life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340000" y="4554360"/>
            <a:ext cx="431964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37151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ttim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o.spera  (sottoscala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Orientation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areer Adapt-abilities Inventor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VA tra gruppi </a:t>
            </a:r>
            <a:r>
              <a:rPr b="1" lang="it-IT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S vs. GC</a:t>
            </a:r>
            <a:endParaRPr b="0" lang="en-US" sz="35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0920" y="947880"/>
          <a:ext cx="8640720" cy="5576760"/>
        </p:xfrm>
        <a:graphic>
          <a:graphicData uri="http://schemas.openxmlformats.org/drawingml/2006/table">
            <a:tbl>
              <a:tblPr/>
              <a:tblGrid>
                <a:gridCol w="1955880"/>
                <a:gridCol w="1404720"/>
                <a:gridCol w="412920"/>
                <a:gridCol w="982440"/>
                <a:gridCol w="1886040"/>
                <a:gridCol w="846000"/>
                <a:gridCol w="1152720"/>
              </a:tblGrid>
              <a:tr h="634680">
                <a:tc>
                  <a:txBody>
                    <a:bodyPr lIns="67680" rIns="67680" tIns="0" bIns="0" anchor="t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viazione s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i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rowSpan="3">
                  <a:txBody>
                    <a:bodyPr lIns="67680" rIns="6768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.AI T.fidu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perimen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1,3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,188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,7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ntrol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4,0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,28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rowSpan="3">
                  <a:txBody>
                    <a:bodyPr lIns="67680" rIns="6768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 neg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perimen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8,9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,31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ntrol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1,17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,2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 rowSpan="3">
                  <a:txBody>
                    <a:bodyPr lIns="67680" rIns="6768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 Autorifless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perimen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,82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385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,5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ntrol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,3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79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 Obiet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perimen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,10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,47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,9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,0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ntrol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,48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,184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45:50Z</dcterms:created>
  <dc:creator>Peveri Cirillo</dc:creator>
  <dc:description/>
  <dc:language>en-US</dc:language>
  <cp:lastModifiedBy>maz</cp:lastModifiedBy>
  <dcterms:modified xsi:type="dcterms:W3CDTF">2015-11-20T06:09:02Z</dcterms:modified>
  <cp:revision>174</cp:revision>
  <dc:subject/>
  <dc:title>Presentazione di PowerPoint</dc:title>
</cp:coreProperties>
</file>